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  <p:custShowLst>
    <p:custShow name="Chapter" id="0">
      <p:sldLst>
        <p:sld r:id="rId4"/>
        <p:sld r:id="rId29"/>
        <p:sld r:id="rId5"/>
        <p:sld r:id="rId34"/>
        <p:sld r:id="rId3"/>
        <p:sld r:id="rId8"/>
        <p:sld r:id="rId10"/>
        <p:sld r:id="rId15"/>
        <p:sld r:id="rId7"/>
        <p:sld r:id="rId27"/>
        <p:sld r:id="rId9"/>
        <p:sld r:id="rId36"/>
        <p:sld r:id="rId21"/>
        <p:sld r:id="rId22"/>
        <p:sld r:id="rId23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5"/>
        <p:sld r:id="rId36"/>
      </p:sldLst>
    </p:custShow>
    <p:custShow name="ELI Sect 2" id="2">
      <p:sldLst>
        <p:sld r:id="rId3"/>
      </p:sldLst>
    </p:custShow>
    <p:custShow name="ELI Sect 3" id="3">
      <p:sldLst>
        <p:sld r:id="rId8"/>
        <p:sld r:id="rId10"/>
        <p:sld r:id="rId15"/>
        <p:sld r:id="rId7"/>
        <p:sld r:id="rId27"/>
        <p:sld r:id="rId9"/>
        <p:sld r:id="rId36"/>
        <p:sld r:id="rId21"/>
        <p:sld r:id="rId22"/>
        <p:sld r:id="rId23"/>
      </p:sldLst>
    </p:custShow>
    <p:custShow name="ELI Sect 4" id="4">
      <p:sldLst>
        <p:sld r:id="rId9"/>
        <p:sld r:id="rId36"/>
        <p:sld r:id="rId21"/>
        <p:sld r:id="rId22"/>
        <p:sld r:id="rId23"/>
      </p:sldLst>
    </p:custShow>
    <p:custShow name="ELI STP" id="5">
      <p:sldLst>
        <p:sld r:id="rId24"/>
        <p:sld r:id="rId28"/>
        <p:sld r:id="rId16"/>
        <p:sld r:id="rId32"/>
        <p:sld r:id="rId30"/>
        <p:sld r:id="rId35"/>
      </p:sldLst>
    </p:custShow>
    <p:custShow name="Bellringers" id="6">
      <p:sldLst>
        <p:sld r:id="rId4"/>
      </p:sldLst>
    </p:custShow>
    <p:custShow name="Transparencies" id="7">
      <p:sldLst>
        <p:sld r:id="rId16"/>
        <p:sld r:id="rId30"/>
      </p:sldLst>
    </p:custShow>
    <p:custShow name="VIs Con" id="8">
      <p:sldLst>
        <p:sld r:id="rId3"/>
      </p:sldLst>
    </p:custShow>
    <p:custShow name="Chapter menu" id="9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5"/>
        <p:sld r:id="rId36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ormation of the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How Rock Deform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 commonly reduces the amount of space that rock occupies, and pushes rocks higher up or deeper down into the cru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 occu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or near convergent bound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ocks are pulled apart by tension, the rocks tend to become thi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nsion occurs at or near divergent bound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,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hear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ared rocks bend, twist, or break apart as they slide past each 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ear stress occurs at transform bound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three types of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7" descr="Untitled-2 copy"/>
          <p:cNvPicPr/>
          <p:nvPr/>
        </p:nvPicPr>
        <p:blipFill>
          <a:blip r:embed="rId1"/>
          <a:stretch/>
        </p:blipFill>
        <p:spPr>
          <a:xfrm>
            <a:off x="638280" y="1981080"/>
            <a:ext cx="393372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Untitled-3 copy"/>
          <p:cNvPicPr/>
          <p:nvPr/>
        </p:nvPicPr>
        <p:blipFill>
          <a:blip r:embed="rId2"/>
          <a:stretch/>
        </p:blipFill>
        <p:spPr>
          <a:xfrm>
            <a:off x="657360" y="3971880"/>
            <a:ext cx="3914640" cy="1895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Untitled-4 copy"/>
          <p:cNvPicPr/>
          <p:nvPr/>
        </p:nvPicPr>
        <p:blipFill>
          <a:blip r:embed="rId3"/>
          <a:stretch/>
        </p:blipFill>
        <p:spPr>
          <a:xfrm>
            <a:off x="4648320" y="3009960"/>
            <a:ext cx="396216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6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ai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tress is applied slowly, the deformed rock may regain its original shape when the stress is 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stress that rock can withstand without permanently changing shape is limi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stress exceeds the rock’s limit, the rock’s shape permanently 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ai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Permanen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tle strain and ductile strain are types of permanent st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 that respond to stress by breaking or fracturing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itt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Brittle strain appears as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terials respond to stress by bending or deforming without breaking. Ductile strain is a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ai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tors that Affec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osition of rock determines where rock is ductile or britt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ut temperature and pressure also affect how rock de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ower temperature and pressure, rock is likely deform in a brittle way. At higher temperature and pressure, rock will deform in a ductil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ai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tors that Affect Strain,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and type of stress and the rate at which stress is applied affects st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greater the stress on the rock is, the more likely rock is to undergo brittle st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quickly stress is applied to rock, the more likely rock is to respond in a brittl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n rock deforms in a ductile way, folds 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ld is most easily observed where flat layers of rock were compressed or squeezed in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 fold commonly results from compression, it can also from as a result of shear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nciple of isosta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types of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ds and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atomy of a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ds have several features by which they are describ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loping sides of a fold are called limb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imbs meet at the bend in the rock layers, which is called the hi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atomy of a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oth halves of a fold are symmetrical, then the fold has an axial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xial plane is a place that could slice the fold into two symmetrical ha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fold is overturned, it appears to be lying on its 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F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ategorize a fold, scientists study the relative ages of the rocks in the f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tic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fold in which the oldest layer is in the center of the fold. Anticlines are commonly arch sha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F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ync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fold in which the youngest layer is in the center of the fold. Synclines are commonly bowl sha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noc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fold in which both limbs are horizontal or almost horizontal. Monoclines form when one part of Earth’s crust moves up or down relative to another p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zes of F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ds vary greatly in size. Some folds are small enough to be contained in a hand-held rock specim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olds cover thousands of square kilometers can be seen only from the a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anticline may form a ridge, which is a large, narrow strip of elevated land that can occur near mounta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syncline may form a valle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l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major types of fol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8" descr="Untitled-10 copy"/>
          <p:cNvPicPr/>
          <p:nvPr/>
        </p:nvPicPr>
        <p:blipFill>
          <a:blip r:embed="rId1"/>
          <a:stretch/>
        </p:blipFill>
        <p:spPr>
          <a:xfrm>
            <a:off x="685800" y="2409840"/>
            <a:ext cx="3962520" cy="269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Untitled-11 copy"/>
          <p:cNvPicPr/>
          <p:nvPr/>
        </p:nvPicPr>
        <p:blipFill>
          <a:blip r:embed="rId2"/>
          <a:stretch/>
        </p:blipFill>
        <p:spPr>
          <a:xfrm>
            <a:off x="4724280" y="2409840"/>
            <a:ext cx="396252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on rock can cause rock to bre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s in rock along which there is no movement of the surrounding rock 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a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break along which the surrounding rock moves is called a fa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face or plane along which the motion occurs is called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pla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nonvertical fault,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anging w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rock above the fault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otw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rock below the fault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ging Walls and Footwal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7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rmal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ormal fault is a fault in which *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rmal faults commonly form at divergent bound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the crust is being pulled apart by ten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faults may occur as a series of parallel fault lines, forming steep, steplike land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68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form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ormation can occur when the weight of some part of Earth’s crust changes. Earth’s crust is part of the litho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orces acting on the lithosphere are balanced, the lithosphere and asthenosphere are balanced, and in a state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osta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verse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*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verse fa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ust fa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*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faults and thrust faults are common in steep mountain ranges, such as the Rockies and the Al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ike-Slip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strike-slip fault, the rock on either side of the fault plane slides horizontally in response to shear st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-slip faults got their name because they slide, 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li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arallel to the direction of the length, 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f the fa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ike-slip faults commonly occur at transform bound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ike-Slip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-slip faults also occur at fracture zones between offset segments of mid-ocean rid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, strike-slip faults occur as groups of smaller faults in areas where large-scale deformation is happ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498320"/>
            <a:ext cx="7824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zes of 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ke folds, faults vary greatly in si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ome faults are so small that they affect only a few layers of rock in a small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aults are thousands of kilometers long and may extend several kilometers below Earth’s surf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aults that cover thousands of kilometers are composed of systems of many smaller, related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major types of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3" descr="Untitled-6 copy"/>
          <p:cNvPicPr/>
          <p:nvPr/>
        </p:nvPicPr>
        <p:blipFill>
          <a:blip r:embed="rId1"/>
          <a:stretch/>
        </p:blipFill>
        <p:spPr>
          <a:xfrm>
            <a:off x="2031840" y="1981080"/>
            <a:ext cx="4749840" cy="39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stas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weight of the lithosphere changes, the lithosphere sinks or rises until a balance is reached once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vements of the lithosp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a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stas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re call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ostatic adjust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isostatic adjustments as a result of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0" descr="Untitled-5 copy"/>
          <p:cNvPicPr/>
          <p:nvPr/>
        </p:nvPicPr>
        <p:blipFill>
          <a:blip r:embed="rId1"/>
          <a:stretch/>
        </p:blipFill>
        <p:spPr>
          <a:xfrm>
            <a:off x="609480" y="2295360"/>
            <a:ext cx="790596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untains and Is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static adjustments regularly occur in mountainous reg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face of mountains is worn away by erosion over millions of years, resulting in a reduction of height and weight of the mountain r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n proces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pli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position and Is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static adjustments occur in areas where rivers carrying a large load flow into large bodies of water, such as an oc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material that the river carries is deposited on the ocean fl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 proces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bs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ostas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laciers and Is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static adjustments also occur as a result of the growth and retreat of glaciers and ice she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ight of the ice causes the lithosphere to sink, while the ocean floor rises because the weight of the overlying water is l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laciers or ice sheets melt, the land rises and the ocean floor sin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Earth’s lithosphere moves, or when tectonic plates collide, these actions exert force on the rock called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types of stress: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1-20T16:29:14Z</dcterms:modified>
  <cp:revision>784</cp:revision>
  <dc:subject/>
  <dc:title>No Slide Title</dc:title>
</cp:coreProperties>
</file>